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834-45A6-4A0A-A1AD-965A2475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36D-92AD-4A5F-8952-974C69E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C7D-267D-40CB-B022-32EA74FE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072-D5A9-48CB-A386-84480E7E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944-4E9E-4868-914A-69130E46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F89-3B27-4510-A21C-D122ABB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A7F-F2CC-428C-9323-B1E30C8C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7AC-7DAE-404F-B8F1-7919FD41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882-E3E4-4068-BD27-B6C22FED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2ED-D24B-4A93-B2BA-C1ACF70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748-5137-4853-97B6-F3B085C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EFF-4DBF-4938-B360-CE745A1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6ADC-FD97-4B9B-BF40-EA50F402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Martin_Luther_King_Jr_NYWTS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6028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oper Black"/>
              </a:rPr>
              <a:t>Martin Luther K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105264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4005360"/>
            <a:ext cx="4896000" cy="26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11280" y="4076640"/>
          <a:ext cx="4318200" cy="2502000"/>
        </p:xfrm>
        <a:graphic>
          <a:graphicData uri="http://schemas.openxmlformats.org/drawingml/2006/table">
            <a:tbl>
              <a:tblPr/>
              <a:tblGrid>
                <a:gridCol w="1809720"/>
                <a:gridCol w="250848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 of bir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15, 19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 of bir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nta, Georgia unit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 of de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4, 1968 (aged 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 of de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is,Tennessee,United st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ffff00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620640"/>
            <a:ext cx="590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oper Black"/>
              </a:rPr>
              <a:t>Mlk’s hou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762440" cy="388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103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3609720" cy="391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2000" y="26028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oper Black"/>
              </a:rPr>
              <a:t>Martin Luther kings murder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4641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 Extra Bold"/>
              </a:rPr>
              <a:t>James earl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92360" y="476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itannic Bold"/>
              </a:rPr>
              <a:t>Martins’ birthpl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53 -0.19676 C -0.32605 -0.19653 -0.33438 -0.19283 -0.3349 -0.19236 C -0.33889 -0.18797 -0.34601 -0.17757 -0.34601 -0.17757 C -0.35192 -0.15838 -0.35938 -0.14219 -0.36511 -0.12277 C -0.36841 -0.09086 -0.36928 -0.08901 -0.36511 -0.04023 C -0.36476 -0.0356 -0.35487 -0.00323 -0.35244 0.00209 C -0.33282 0.04509 -0.30209 0.08602 -0.26511 0.0992 C -0.254 0.10821 -0.24775 0.11515 -0.2349 0.11839 C -0.21962 0.12209 -0.18889 0.12671 -0.18889 0.12671 C -0.15209 0.11376 -0.10973 0.09642 -0.08421 0.05688 C -0.08091 0.03492 -0.07535 -0.00439 -0.06824 -0.02543 C -0.06284 -0.04115 -0.05504 -0.04647 -0.04444 -0.05502 C -0.03976 -0.05872 -0.03542 -0.06381 -0.03021 -0.06566 C -0.02258 -0.0682 -0.01442 -0.06705 -0.00643 -0.06774 C 0.02987 -0.06404 0.05799 -0.05965 0.09184 -0.04231 C 0.1415 -0.0171 0.17778 -0.00693 0.21112 0.04648 C 0.22327 0.06613 0.22674 0.09226 0.23177 0.11607 C 0.23403 0.17365 0.23612 0.22336 0.21719 0.27677 C 0.21563 0.2881 0.21546 0.29989 0.21268 0.31076 C 0.20591 0.33781 0.18716 0.35584 0.1698 0.36995 C 0.14063 0.36255 0.11806 0.34752 0.09046 0.33388 C 0.05434 0.31607 0.01546 0.29966 -0.02223 0.2874 C -0.06145 0.23515 -0.07049 0.16463 -0.08264 0.09503 C -0.08212 0.08579 -0.08247 0.07654 -0.08108 0.06752 C -0.07744 0.04417 -0.05747 0.03515 -0.04288 0.0296 C -0.00764 0.03145 0.00122 0.03399 0.03176 0.04209 C 0.05191 0.05897 0.06579 0.08139 0.08247 0.10359 C 0.09445 0.13758 0.10834 0.1681 0.1158 0.20486 C 0.1132 0.22266 0.1099 0.24001 0.10764 0.25781 C 0.09427 0.2518 0.08299 0.21735 0.07605 0.20717 C 0.06493 0.19029 0.05591 0.17064 0.04444 0.15423 C 0.02396 0.12486 0.01631 0.12602 0.00313 0.09087 C 0.00052 0.07769 -0.00034 0.06428 -0.00157 0.05064 C -8.88889E-006 0.00417 -8.88889E-006 0.02105 -8.88889E-006 5.78035E-006 E">
                                      <p:cBhvr>
                                        <p:cTn id="10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3809880" cy="292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11280" y="333360"/>
            <a:ext cx="54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us boycot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4:58:11Z</dcterms:created>
  <dc:creator>nb</dc:creator>
  <dc:description/>
  <dc:language>en-US</dc:language>
  <cp:lastModifiedBy>nb</cp:lastModifiedBy>
  <dcterms:modified xsi:type="dcterms:W3CDTF">2009-02-27T12:32:16Z</dcterms:modified>
  <cp:revision>3</cp:revision>
  <dc:subject/>
  <dc:title>Slide 1</dc:title>
</cp:coreProperties>
</file>